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36E-7888-48E3-A203-1D3CC466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72C-4A4D-4AD8-914A-F949D98C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ACA-86E3-4C30-BF68-EA8EE727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41A-4EFD-4D4F-B279-497C7175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9B3F-3C9F-4479-8223-5C34BDB7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B613-01FE-426E-AB92-3D475358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871F-6CC8-4324-8DDE-4003FC20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A419-3C0A-4AE9-B586-C547164A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1081-361B-463C-BCC9-8EA423AC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C04B-5AB2-449E-BE86-124C25B7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B35B-2C55-45B0-A656-D19B001A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15B-BA95-4BF4-97E8-A2903301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7005-1AAF-4C7B-A820-EAF46815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E81F-5AF7-465E-9748-87E61DBE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418B-5538-40C8-973D-D59E3DFF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8C92-B461-4330-B0E6-9C374AEA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A100-1F84-413A-B92D-322E09B1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BB4FE-406E-40DA-82D5-5957B222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AB784-5494-4F71-A869-F4575483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37508-85D2-4506-9AED-49E5F2DE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82E3-3D9F-46C4-9E2B-134D53E3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53D1A-7535-47B6-8940-34F2AF43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5E0-9DBA-4D64-AE19-B32AF8A2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BF130-9269-4B43-937B-BA58B463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179E8-56BC-49AF-83DE-EC13B11B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06509-838D-4332-9F9F-5AF9C29D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8D902-81B3-47D3-BA66-8B9E6D17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729D-4DCF-4AC9-A7EA-3424E4AF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4715-8228-4776-99E4-DBB4FD3D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5F8F0-7449-4233-9AC4-E95DC628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E149D-72A6-474E-BA38-4FED9DFA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76F8C-EC4D-495B-B05D-874034D9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CC7DE-30EE-4781-B864-B4A3D3D2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3EA-D715-4D01-AB52-671DD6C1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0A502-6AFC-4FA5-A5F6-CBE38147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0CAA7-DAFE-4AB1-97B9-EE3812C6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DB3B9-4A0D-46B6-B8D6-FE4DA647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7E1FA-C6DD-4F3C-B302-5753E1BE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EB239-180E-4B6E-B5B4-99D18207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609EA-9D8E-4076-BEF5-E2F4367C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371D0-D99B-447D-B667-33F7DF90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E4C48-07D6-41E8-B0D8-3C527C41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D46C8-5FA2-4A58-BB7A-A0F477E9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EABA2-B6F8-4A2D-AC18-8C5A0298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24FB-CECD-447E-9244-F0168976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5382B-356F-4203-9397-1C28BA41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875DC-A8B4-466A-99EA-23B1C4A9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E7B56-8584-4A54-A05A-5B803B6E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BEF2C-B7E4-43A4-9017-8A5130C3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52AB9-4FFA-49CC-902D-A525ABCE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AC673-6A36-4002-BCF7-C70A140C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DA3DD-6E81-44AA-A913-CC705398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EAE23-4AB4-4D7F-B99D-2231201B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9E8FD-60DE-4856-A432-B6873A6B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D1728-59E3-43AD-A56C-3632EEDB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241-8140-4EEC-B0DF-354CB9D5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4C4D6-6393-4283-A8B7-DDF6E209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AFA-2B3A-440E-8A79-1BF268FC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F56-14F4-4294-8CCA-64228338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37F-F2FD-48EB-9766-0C1CB6E7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C3D4-0D26-40F3-9B72-DC3C11D1C850}" type="datetime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C5FA-2D26-4879-8BD3-A48DD0CED053}" type="slidenum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D598-E2D9-4093-AA66-EDE38ADD3CC3}" type="datetime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C935-944B-496E-8C7C-0838DD4F50B7}" type="slidenum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7DCA-7719-4305-980B-7EEC5687BC12}" type="datetime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CD70-A483-4DC4-9628-35C807A181F1}" type="slidenum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A1B8-865A-4C9A-AB11-4D47FC70EBE6}" type="datetime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E9EA-9E35-4CC0-B41A-89EF35D18897}" type="slidenum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09B5-6C57-4187-8310-787CE0A712B8}" type="datetime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305C-0028-4121-AA5A-9C0ED46271C7}" type="slidenum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Lucida Sans Unicode"/>
              </a:rPr>
              <a:t>The Minister’s Black Veil</a:t>
            </a:r>
            <a:endParaRPr b="1" lang="en-US" sz="45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Lucida Sans Unicode"/>
              </a:rPr>
              <a:t>By Nathaniel Hawthorn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1523880" y="3809880"/>
            <a:ext cx="25401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Vocab, cont.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0000"/>
          </a:bodyPr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Ostentatious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characterized by vulgar or pretentious display; designed to impress or attract notic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Sagacious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having or showing keen mental discernment and good judgment; shrew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Scrupled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hesitate or be reluctant to do something that one thinks may be wro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Imp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a mischievous chil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Waggery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waggish behavior or remarks; jocularit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Vagary 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an unexpected and inexplicable change in a situation or in someone's behavior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Lest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with the intention of preventing (something undesirable); to avoid the risk of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Torpor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a state of physical or mental inactivity; letharg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Piety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the quality of being religious or rever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Mitigate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make less severe, serious, or painful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Pious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devoutly religiou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Hoary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(of a person) having gray or white hair; ag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Prompt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In what ways do you wear a black veil?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2913120" y="1219320"/>
            <a:ext cx="3432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Setting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mall, old villag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1800’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urita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3213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Characters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Reverend Hooper – main character and minister; wears black veil because he believes it symbolizes sin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Elizabeth – Hooper’s fiancée, until he refused to take off the veil in her presence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Reverend Mr. Clark – young minister from nearby town of Westbury who prays for Rev. Hooper at his deathbed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e Townspeople – highly religious &amp; nervous about the change in their minister; they both revere &amp; shun Rev. Hooper simultaneously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Brief Summary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everend Hooper was always known as a neat and orderly man, until one Sunday morning he arrived at the first service with a black veil covering his fac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e veil starts to isolate him from his companionships; one man who always invited to him to dinner, didn’t and his finance denies his marriage proposal.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He wears his veil to the grave, and refuses to take it off even at the grav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Inspiration?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Hawthorne may have been inspired by a true event. A clergyman named Joseph Moody of York, Maine York, nicknamed "Handkerchief Moody", accidentally killed a friend when he was a young man and wore a black veil from the man's funeral until his own death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4419720" y="3200400"/>
            <a:ext cx="25146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Feedback &amp; Understanding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hy do you think he was wearing the black veil?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hat do you think the black veil symbolizes?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hy do you think Mr. Hooper will not remove the veil, even as he is dying?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hat do Father Hooper's final words say about his possible reasoning for wearing the veil?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30243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Criticism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oe called the work a ‘masterly composition,’ but suggested that only the most sensitive readers would be able to glean the true import of the narrative and see beyond the obvious moral of the story.”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Vocab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0000"/>
          </a:bodyPr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Sexton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 person who looks after a church and churchyard, sometimes acting as bell-ringer and formerly as a gravedigger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Throng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 large, densely packed crowd of people or animal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Semblance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the outward appearance or apparent form of something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Parson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 beneficed member of the clergy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Swathed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wrap in several layers of fabric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Parishioner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n inhabitant of a parish, esp. one who belongs to or attends a particular church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Perturbation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nxiety; mental uneasines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Venerable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ccorded a great deal of respect, esp. because of age, wisdom, or character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Tinged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olor slightly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Pathos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 quality that evokes pity or sadnes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Visage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 person's facial expression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Indecorous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ailure to conform to good taste or etiquette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Vocab, cont.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0000"/>
          </a:bodyPr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Impertinent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not showing proper respect; rude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Erred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- be mistaken or incorrect; make a mistake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Amiable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 having or displaying a friendly and pleasant manner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Abashed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ause to feel embarrassed, disconcerted, or ashamed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Synod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n assembly of the clergy and sometimes also the laity in a diocese or other division of a particular church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Plighted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pledge or promise solemnly (one's faith or loyalty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Take something amiss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be offended by something that is said, typically through misinterpreting the intentions behind it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Pensively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ngaged in, involving, or reflecting deep or serious thought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Preternatural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beyond what is normal or natural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Antipathy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 a deep-seated feeling of dislike; aversion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Intimated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imply or hint at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Ambiguity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 lack of decisiveness or commitment resulting from a failure to make a choice between alternatives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0:39:48Z</dcterms:created>
  <dc:creator>10thoenenmelinda</dc:creator>
  <dc:description/>
  <dc:language>en-US</dc:language>
  <cp:lastModifiedBy>VMS</cp:lastModifiedBy>
  <dcterms:modified xsi:type="dcterms:W3CDTF">2009-08-31T14:58:16Z</dcterms:modified>
  <cp:revision>30</cp:revision>
  <dc:subject/>
  <dc:title>The Minister’s Black Veil</dc:title>
</cp:coreProperties>
</file>